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AE7D-FCE9-4215-A3BD-87FDFF37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0204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59B-A607-45E6-92F0-863D3D8F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675-7EA7-4E67-ACA2-BFC57F30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862E-BB58-4E84-8ED7-AEB28407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A018-BAC6-470E-914F-6F7488CE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EC1F-3D44-46DD-8AE5-E538718E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6D0C-F7AD-4F7B-AE4B-3BF7D686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FAFE-0945-4A90-9948-A2C0A025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4FE2-E709-4AF5-BAF4-982F8866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733560" y="228240"/>
            <a:ext cx="52290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E510-F242-4FD9-91EE-8A3355C1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0927-E326-4D03-91A1-E7DE0FF2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F949-72B5-43FE-B897-F52C4679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BDB6-EAD0-489A-B2DE-00800337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E793-7401-4647-A49C-7E0312F1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0204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5B6C-4739-454B-A5C3-AE38E064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D7B5-6384-4D5B-9140-AC46AE11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31D6-D46B-4EEF-B38E-0E6A831F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0EA2-EF03-45EC-AEC9-B0CA2ED8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288-2CEF-4833-9692-3487AD18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34A-3EE0-45E0-AFB7-8C322857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33560" y="228240"/>
            <a:ext cx="52290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00A-6701-4DD7-85CE-FF86E9D0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EEC-D450-47BA-ADCF-B2CE0DD2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0AC6-F7BB-44BA-AFF6-1936C24F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E69-F767-4147-BD71-71E11277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-45072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324080" indent="-22860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731960" indent="-22860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139840" indent="-22860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2139840" indent="-228600">
              <a:lnSpc>
                <a:spcPct val="95000"/>
              </a:lnSpc>
              <a:spcBef>
                <a:spcPts val="1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2139840" indent="-228600">
              <a:lnSpc>
                <a:spcPct val="95000"/>
              </a:lnSpc>
              <a:spcBef>
                <a:spcPts val="1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28240" y="6171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ManTech Proprietary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54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4887-34E2-4376-90FE-C1B93ABB49E0}" type="slidenum"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257040"/>
            <a:ext cx="1447560" cy="4287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371600" y="914400"/>
            <a:ext cx="77724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1332000" cy="6858000"/>
            <a:chOff x="0" y="0"/>
            <a:chExt cx="1332000" cy="6858000"/>
          </a:xfrm>
        </p:grpSpPr>
        <p:sp>
          <p:nvSpPr>
            <p:cNvPr id="44" name=""/>
            <p:cNvSpPr/>
            <p:nvPr/>
          </p:nvSpPr>
          <p:spPr>
            <a:xfrm>
              <a:off x="0" y="2832120"/>
              <a:ext cx="1332000" cy="4025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4a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330560" cy="288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" name=""/>
          <p:cNvGrpSpPr/>
          <p:nvPr/>
        </p:nvGrpSpPr>
        <p:grpSpPr>
          <a:xfrm>
            <a:off x="3301920" y="2449440"/>
            <a:ext cx="5822640" cy="4381560"/>
            <a:chOff x="3301920" y="2449440"/>
            <a:chExt cx="5822640" cy="4381560"/>
          </a:xfrm>
        </p:grpSpPr>
        <p:sp>
          <p:nvSpPr>
            <p:cNvPr id="47" name=""/>
            <p:cNvSpPr/>
            <p:nvPr/>
          </p:nvSpPr>
          <p:spPr>
            <a:xfrm>
              <a:off x="5284080" y="3003480"/>
              <a:ext cx="3188520" cy="210348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94200" y="6107040"/>
              <a:ext cx="150840" cy="7239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94200" y="6107040"/>
              <a:ext cx="150840" cy="7239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232160" y="5440320"/>
              <a:ext cx="3720240" cy="139068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232160" y="5440320"/>
              <a:ext cx="3720240" cy="139068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59720" y="6004080"/>
              <a:ext cx="1464840" cy="8269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59720" y="6004080"/>
              <a:ext cx="1464840" cy="8269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52760" y="3622680"/>
              <a:ext cx="1171800" cy="253188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52760" y="3622680"/>
              <a:ext cx="1171800" cy="253188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96320" y="2449440"/>
              <a:ext cx="4728240" cy="354168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96320" y="2449440"/>
              <a:ext cx="4728240" cy="354168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378200" y="3473280"/>
              <a:ext cx="736920" cy="22068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53080" y="3946680"/>
              <a:ext cx="1214640" cy="3110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44760" y="4475160"/>
              <a:ext cx="1366920" cy="3571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72240" y="5037120"/>
              <a:ext cx="55440" cy="1260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97400" y="6210360"/>
              <a:ext cx="616680" cy="26352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01920" y="5232240"/>
              <a:ext cx="799920" cy="23040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84080" y="3003480"/>
              <a:ext cx="3188520" cy="210348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94200" y="6107040"/>
              <a:ext cx="150840" cy="7239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94200" y="6107040"/>
              <a:ext cx="150840" cy="7239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32160" y="5440320"/>
              <a:ext cx="3720240" cy="139068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32160" y="5440320"/>
              <a:ext cx="3720240" cy="139068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59720" y="6004080"/>
              <a:ext cx="1464840" cy="8269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59720" y="6004080"/>
              <a:ext cx="1464840" cy="8269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52760" y="3622680"/>
              <a:ext cx="1171800" cy="253188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52760" y="3622680"/>
              <a:ext cx="1171800" cy="253188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96320" y="2449440"/>
              <a:ext cx="4728240" cy="354168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96320" y="2449440"/>
              <a:ext cx="4728240" cy="354168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78200" y="3473280"/>
              <a:ext cx="736920" cy="22068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53080" y="3946680"/>
              <a:ext cx="1214640" cy="3110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44760" y="4475160"/>
              <a:ext cx="1366920" cy="3571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72240" y="5037120"/>
              <a:ext cx="55440" cy="1260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97400" y="6210360"/>
              <a:ext cx="616680" cy="26352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01920" y="5232240"/>
              <a:ext cx="799920" cy="23040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23960" y="1436400"/>
            <a:ext cx="715968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4"/>
          </p:nvPr>
        </p:nvSpPr>
        <p:spPr>
          <a:xfrm>
            <a:off x="3755880" y="63576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371600" y="6541920"/>
            <a:ext cx="1066680" cy="316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F35B-3F0A-42FF-B3AF-E686CBE63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81080" algn="ctr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31760" algn="ctr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82440" algn="ctr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82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82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3399"/>
                </a:solidFill>
                <a:latin typeface="Arial"/>
              </a:rPr>
              <a:t>ManTech Space Systems</a:t>
            </a:r>
            <a:br>
              <a:rPr sz="3700"/>
            </a:br>
            <a:r>
              <a:rPr b="1" i="1" lang="en-US" sz="3700" spc="-1" strike="noStrike">
                <a:solidFill>
                  <a:srgbClr val="003399"/>
                </a:solidFill>
                <a:latin typeface="Arial"/>
              </a:rPr>
              <a:t>NATO Operations</a:t>
            </a:r>
            <a:br>
              <a:rPr sz="3700"/>
            </a:br>
            <a:br>
              <a:rPr sz="3700"/>
            </a:br>
            <a:r>
              <a:rPr b="1" i="1" lang="en-US" sz="3700" spc="-1" strike="noStrike">
                <a:solidFill>
                  <a:srgbClr val="003399"/>
                </a:solidFill>
                <a:latin typeface="Arial"/>
              </a:rPr>
              <a:t>1st</a:t>
            </a:r>
            <a:r>
              <a:rPr b="1" lang="en-US" sz="2900" spc="-1" strike="noStrike">
                <a:solidFill>
                  <a:srgbClr val="003399"/>
                </a:solidFill>
                <a:latin typeface="Arial"/>
              </a:rPr>
              <a:t> Quarter 2008</a:t>
            </a:r>
            <a:br>
              <a:rPr sz="2900"/>
            </a:br>
            <a:r>
              <a:rPr b="1" lang="en-US" sz="2900" spc="-1" strike="noStrike">
                <a:solidFill>
                  <a:srgbClr val="003399"/>
                </a:solidFill>
                <a:latin typeface="Arial"/>
              </a:rPr>
              <a:t>Project Status Review </a:t>
            </a:r>
            <a:br>
              <a:rPr sz="2900"/>
            </a:br>
            <a:br>
              <a:rPr sz="3700"/>
            </a:br>
            <a:br>
              <a:rPr sz="3700"/>
            </a:br>
            <a:r>
              <a:rPr b="1" lang="en-US" sz="3700" spc="-1" strike="noStrike">
                <a:solidFill>
                  <a:srgbClr val="003399"/>
                </a:solidFill>
                <a:latin typeface="Arial"/>
              </a:rPr>
              <a:t>April 29, 2008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13400" y="1527120"/>
            <a:ext cx="3524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77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851120" y="6984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Top 10 Revenue Generating Contracts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40640" cy="387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FB48-45F8-4ED0-861B-4ED3F82E61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851120" y="6984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AR as of 28 March 2008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153640" cy="4643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62120" y="59580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yment of $1,095,716 in 61-90 Category was paid in Apr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3FE-F98C-45F4-B5BB-D14F7E644E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1851120" y="6984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Unbilled as of 28 March 2008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364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A3BE-7440-4F73-8AE3-A69F050547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175248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89560" y="1793880"/>
            <a:ext cx="6188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Space System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0240" y="717480"/>
            <a:ext cx="476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AT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851120" y="6984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2008 Forecast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-157320" y="-2687760"/>
          <a:ext cx="930600" cy="395280"/>
        </p:xfrm>
        <a:graphic>
          <a:graphicData uri="http://schemas.openxmlformats.org/drawingml/2006/table">
            <a:tbl>
              <a:tblPr/>
              <a:tblGrid>
                <a:gridCol w="930600"/>
              </a:tblGrid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77880" y="5105520"/>
            <a:ext cx="6423120" cy="1135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7715160" cy="400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A4FC-24C2-4C29-8A2F-EEFEED936B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2008 Variance Explanation</a:t>
            </a:r>
            <a:br>
              <a:rPr sz="2100"/>
            </a:br>
            <a:endParaRPr b="1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72880" y="1295280"/>
            <a:ext cx="8598240" cy="37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FAB-AC19-48F2-9669-4BA94BDBBE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Arial"/>
              </a:rPr>
              <a:t>2008 Revenue By Month</a:t>
            </a:r>
            <a:endParaRPr b="1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-85392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1295280"/>
            <a:ext cx="77724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71440" y="-1501920"/>
          <a:ext cx="841680" cy="395280"/>
        </p:xfrm>
        <a:graphic>
          <a:graphicData uri="http://schemas.openxmlformats.org/drawingml/2006/table">
            <a:tbl>
              <a:tblPr/>
              <a:tblGrid>
                <a:gridCol w="841680"/>
              </a:tblGrid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1778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-380880" y="1066680"/>
            <a:ext cx="9677160" cy="45212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1752480" y="5562720"/>
            <a:ext cx="5572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otal 2008 Revenue = $23.9M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378-D0D3-440A-B245-87A64D6E2F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2008 Projections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205740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ATO estimated growth is 54% over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6363000" cy="456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F1F-E66F-4489-A6DF-1D3B1785D7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venue Opportunities (Un-weighting</a:t>
            </a: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)</a:t>
            </a:r>
            <a:br>
              <a:rPr sz="2100"/>
            </a:br>
            <a:endParaRPr b="1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356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3CE6-1C5E-4E23-AE83-3B760F97E5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8ae"/>
                </a:solidFill>
                <a:latin typeface="Arial"/>
              </a:rPr>
              <a:t>Q1 Summar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523880"/>
            <a:ext cx="7848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ae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8ae"/>
                </a:solidFill>
                <a:latin typeface="Arial"/>
              </a:rPr>
              <a:t>Updated Forecast Due to RFPs Slipping to the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ae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8ae"/>
                </a:solidFill>
                <a:latin typeface="Arial"/>
              </a:rPr>
              <a:t>Proposal work-load for Q2 &amp; Q3 expected to be hi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ae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8ae"/>
                </a:solidFill>
                <a:latin typeface="Arial"/>
              </a:rPr>
              <a:t>Normal 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ae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8ae"/>
                </a:solidFill>
                <a:latin typeface="Arial"/>
              </a:rPr>
              <a:t>New TOs on IDIQ contra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ae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8ae"/>
                </a:solidFill>
                <a:latin typeface="Arial"/>
              </a:rPr>
              <a:t>TPX &amp; RPX Certifications on Tr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ae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8ae"/>
                </a:solidFill>
                <a:latin typeface="Arial"/>
              </a:rPr>
              <a:t>MGS Progr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8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503B-C706-48ED-B659-D124B5EC73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1st Quarter Highlights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-45072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Financial Summary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Two strategic PM positions in place in Afghanista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16 New Task Orders During Q1 valued at $3.5M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Received 1</a:t>
            </a:r>
            <a:r>
              <a:rPr b="1" lang="en-US" sz="2500" spc="-1" strike="noStrike" baseline="30000">
                <a:solidFill>
                  <a:srgbClr val="000099"/>
                </a:solidFill>
                <a:latin typeface="Arial"/>
              </a:rPr>
              <a:t>st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 TO with BICES Organizatio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6970680" cy="18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3D5-1499-4DC9-B517-651178FD7E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NATO Ops Summary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826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-45072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ompleted Camp Dublin Installation on NTM-I.  Final Acceptance is pending.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Spare Part Equipment for NC3A shipped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NTM-I Radios &amp; Antenna PO received &amp; ordered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Additional NTM-I Vehicl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One VTC system for NC3A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Active Participation with VTC Demos &amp; User Group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Applying for Certification of Polycom TPX &amp; RPX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96B-596A-45D8-83BB-58CB892D8D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MGS Update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371600"/>
            <a:ext cx="79250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MGS Progress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Branch Office Register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ompensation Structure Establish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CR Registration &amp; Cage Code Establish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Facility Clearance Paperwork Submitt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684-BC46-4F96-AE83-5B79AC0FC7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Proposal Efforts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9156600" cy="2111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95280" y="12193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$2.6M worth of Competitive Proposals Submitted in Q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080-DD12-44C8-B028-5A0996B6D2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4267080"/>
            <a:ext cx="82296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886200"/>
            <a:ext cx="82296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3429000"/>
            <a:ext cx="82296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3048120"/>
            <a:ext cx="82296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590920"/>
            <a:ext cx="82296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828800"/>
            <a:ext cx="8458200" cy="6858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5486400"/>
            <a:ext cx="73152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of 75 employees /consultants &amp; sub-contracto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NA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Arial"/>
              </a:rPr>
              <a:t>Make up of NATO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500" spc="-1" strike="noStrike">
                <a:solidFill>
                  <a:srgbClr val="003399"/>
                </a:solidFill>
                <a:latin typeface="Arial"/>
              </a:rPr>
              <a:t>Staffing</a:t>
            </a:r>
            <a:endParaRPr b="1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1981080"/>
            <a:ext cx="48769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Employee (29%) Consultants/ Subs (71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5        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20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150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981080"/>
            <a:ext cx="3048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ontra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rea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AC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ATO H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C3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AM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JALL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SHA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TM-I (NAM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ManTech- Staf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C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Tot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24080" indent="-228600">
              <a:lnSpc>
                <a:spcPct val="80000"/>
              </a:lnSpc>
              <a:spcBef>
                <a:spcPts val="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285-D59D-48D6-81DB-D1899F4459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Arial"/>
              </a:rPr>
              <a:t>Q1 2008 Performance</a:t>
            </a:r>
            <a:endParaRPr b="1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752480"/>
            <a:ext cx="1600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even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$4,873,8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rofit (Fe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$787,2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Gross Profi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(Fee/Co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19.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676520" y="1312920"/>
          <a:ext cx="7391160" cy="48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12920"/>
                    <a:ext cx="739116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20B-25AE-4129-BDCA-B19D7105C1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Arial"/>
              </a:rPr>
              <a:t>YTD 2008 Performance </a:t>
            </a:r>
            <a:endParaRPr b="1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75248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752480"/>
            <a:ext cx="1600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even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$4,873,8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rofit (Fe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$787,2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Gross Profi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(Fee/Co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19.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828800" y="1295280"/>
          <a:ext cx="6934320" cy="455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95280"/>
                    <a:ext cx="6934320" cy="45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886-F40A-43E6-8204-AD2832D88F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175248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86040" y="228600"/>
            <a:ext cx="5229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Arial"/>
              </a:rPr>
              <a:t>Q1 Profit % By Agenc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848360" cy="508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23A-AAAE-4844-BCE4-8A69FE9DFD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4:53:33Z</dcterms:created>
  <dc:creator>T.I. WEINTRAUB</dc:creator>
  <dc:description/>
  <dc:language>en-US</dc:language>
  <cp:lastModifiedBy> </cp:lastModifiedBy>
  <dcterms:modified xsi:type="dcterms:W3CDTF">2008-04-29T13:59:08Z</dcterms:modified>
  <cp:revision>124</cp:revision>
  <dc:subject/>
  <dc:title>Developing A New Market</dc:title>
</cp:coreProperties>
</file>